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jpeg" ContentType="image/jpeg"/>
  <Override PartName="/ppt/media/image19.png" ContentType="image/png"/>
  <Override PartName="/ppt/media/image21.jpeg" ContentType="image/jpeg"/>
  <Override PartName="/ppt/media/image29.png" ContentType="image/png"/>
  <Override PartName="/ppt/media/image17.jpeg" ContentType="image/jpeg"/>
  <Override PartName="/ppt/media/image16.jpeg" ContentType="image/jpeg"/>
  <Override PartName="/ppt/media/image13.jpeg" ContentType="image/jpeg"/>
  <Override PartName="/ppt/media/image40.jpeg" ContentType="image/jpeg"/>
  <Override PartName="/ppt/media/image1.jpeg" ContentType="image/jpeg"/>
  <Override PartName="/ppt/media/image35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0.jpeg" ContentType="image/jpeg"/>
  <Override PartName="/ppt/media/image1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WHOOSH.WAV" ContentType="audio/x-wav"/>
  <Override PartName="/ppt/media/image39.jpeg" ContentType="image/jpeg"/>
  <Override PartName="/ppt/media/image8.png" ContentType="image/png"/>
  <Override PartName="/ppt/media/image14.jpeg" ContentType="image/jpeg"/>
  <Override PartName="/ppt/media/image31.jpeg" ContentType="image/jpeg"/>
  <Override PartName="/ppt/media/image4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6EC9-4D5F-4FFB-9D7D-AF3076EC6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n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we say light is made of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 we say light is made of particles calle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s very fast, at 186 000 miles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m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a prism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Spectrum includes all kind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s     (all light moves at the same speed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waves                                       light spe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violet light             (some light photon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rays                                  short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                  and more energy than 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EM radiation can penetrat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- the Stratospheric Observatory for Infrared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of Ori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nn.com/2001/LAW/02/20/scotus.heatdetector.01.ap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oposite.stsci.edu/pubinfo/pr/97/13/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lar.physics.montana.edu/tslater/real-ti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Gamma Rays - Compton Gamma Ray Observatory (GRO)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ky’s emission of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e receive GRBs from every direction 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length observations are possible from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y Large Array (VLA) in New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EM radiation require different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.O.Y. G. B.I.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ing Spectra:                   The Properti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e part of the electromagnetic (EM)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radiation is described as a wave with wavelengths in the range  1x10-15 m to 100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bits of light are called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Light Into a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00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light sources contain energy in lots of different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hite light contains all colors, how fast does it m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,000 mile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,000 kilometer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108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r objective lens provides a brighter (not bigger)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es revers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in functions of a telescop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east impor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= (objective lens focal length  / eyepiece lens focal leng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unctions of a Telesco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gather ligh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resolve fine detai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o magnif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bout 50x per inch of aperture (rule of thum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telescopes have draw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rkes Observatory - 40-inch Refracting Telescop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telescopes use mirrors to concentrate incoming star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what is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’s face two major obstacles in observing th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cson, Arizona in 1959 and 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hinders astronom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ge-Coupled Device (CC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ry Photographs vs. C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m (negative)           CCD (negative)             CCD (posi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integration (I.e. exposure)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quantum efficiency: Film 1% CCD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purpose of a telescop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tars twinkle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Young’s interferenc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/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ACB-BF82-49CF-BB59-4677665B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9E0-1AD3-4ED8-9D9C-3E4C7E47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3F6D-F396-4F8E-BA7B-E6922E96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548-EE32-435D-961B-BA40B7D0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148-9AA5-47F0-8ACE-4D4DE308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97C-7C14-4406-81AE-200989FE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3C5-46ED-4237-B37A-EF596D00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7D2-4536-416A-8787-58BE92C5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1EF-76AC-48E1-BDBC-365CCA5E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CC8-9832-4D5F-B8B9-C1A8DE15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86D-A208-4E66-BDEF-7A6C61CD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050-DA96-465E-89DB-BB6B0CF8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B64A-5E5F-4628-9845-C012272FD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bartleby.com/61/38/A0013800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03-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ght and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-380880" y="106200"/>
            <a:ext cx="99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Light and Why Would Astronomers Want to Study the Properties of Light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s we say light is made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time we say light is made of particle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y fa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at 186 000 miles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,000 km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ider a pris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3" descr="F03-01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295280" y="547056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232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62120" y="5181480"/>
            <a:ext cx="7848000" cy="398880"/>
            <a:chOff x="762120" y="5181480"/>
            <a:chExt cx="7848000" cy="398880"/>
          </a:xfrm>
        </p:grpSpPr>
        <p:sp>
          <p:nvSpPr>
            <p:cNvPr id="94" name="Text Box 7"/>
            <p:cNvSpPr/>
            <p:nvPr/>
          </p:nvSpPr>
          <p:spPr>
            <a:xfrm>
              <a:off x="762120" y="5181480"/>
              <a:ext cx="253404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6075720" y="5181480"/>
              <a:ext cx="25344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69280" y="5410080"/>
              <a:ext cx="302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but one part of the entir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Spectrum includes all kind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o waves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all light moves at the same speed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cro waves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light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isible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ltra violet light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(some light photons hav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 rays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horter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ma rays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nd more energy than oth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343400" y="441972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03-06"/>
          <p:cNvPicPr/>
          <p:nvPr/>
        </p:nvPicPr>
        <p:blipFill>
          <a:blip r:embed="rId1"/>
          <a:stretch/>
        </p:blipFill>
        <p:spPr>
          <a:xfrm>
            <a:off x="0" y="106992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-380880" y="228600"/>
            <a:ext cx="99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all EM radiation can penetrat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em_spectrum_observatories"/>
          <p:cNvPicPr/>
          <p:nvPr/>
        </p:nvPicPr>
        <p:blipFill>
          <a:blip r:embed="rId1"/>
          <a:stretch/>
        </p:blipFill>
        <p:spPr>
          <a:xfrm>
            <a:off x="0" y="990720"/>
            <a:ext cx="9448920" cy="39812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80880" y="53341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tronomers use different instruments to look at light of different wavelengths - sometimes, we even have to go above Earth’s atmo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FIA - the Stratospheric Observatory for Infrared Astronom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Picture 3" descr="sofia"/>
          <p:cNvPicPr/>
          <p:nvPr/>
        </p:nvPicPr>
        <p:blipFill>
          <a:blip r:embed="rId1"/>
          <a:stretch/>
        </p:blipFill>
        <p:spPr>
          <a:xfrm>
            <a:off x="0" y="777960"/>
            <a:ext cx="9372600" cy="5622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servations at other wavelengths are revealing previously invisible sight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3" descr="F03-34"/>
          <p:cNvPicPr/>
          <p:nvPr/>
        </p:nvPicPr>
        <p:blipFill>
          <a:blip r:embed="rId1"/>
          <a:stretch/>
        </p:blipFill>
        <p:spPr>
          <a:xfrm>
            <a:off x="1981080" y="1219320"/>
            <a:ext cx="563904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838080" y="2286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495288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dinary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9608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772400" y="4800600"/>
            <a:ext cx="106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p of Orion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orion_IR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0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228600" y="0"/>
            <a:ext cx="8763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Orion in Different Wavelengths of L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ain purpose of a telesc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stars twink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cnn.com/2001/LAW/02/20/scotus.heatdetector.01.ap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Vtherm_IR_scan"/>
          <p:cNvPicPr/>
          <p:nvPr/>
        </p:nvPicPr>
        <p:blipFill>
          <a:blip r:embed="rId1"/>
          <a:stretch/>
        </p:blipFill>
        <p:spPr>
          <a:xfrm>
            <a:off x="838080" y="533520"/>
            <a:ext cx="7315200" cy="53863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orionnebula_hst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457200" y="5638680"/>
            <a:ext cx="83059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ubble Space Telescope Views of Orion Nebula showing stars hidden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ttp://oposite.stsci.edu/pubinfo/pr/97/13/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latest_visible_sun"/>
          <p:cNvPicPr/>
          <p:nvPr/>
        </p:nvPicPr>
        <p:blipFill>
          <a:blip r:embed="rId1"/>
          <a:stretch/>
        </p:blipFill>
        <p:spPr>
          <a:xfrm>
            <a:off x="4700520" y="1523880"/>
            <a:ext cx="451980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DAY’S Sun as seen in visible light from Earth and from space in X-rays by satell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latest_sxt"/>
          <p:cNvPicPr/>
          <p:nvPr/>
        </p:nvPicPr>
        <p:blipFill>
          <a:blip r:embed="rId2"/>
          <a:stretch/>
        </p:blipFill>
        <p:spPr>
          <a:xfrm>
            <a:off x="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solar.physics.montana.edu/tslater/real-tim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servations at wavelengths other than visible light are revealing previously invisible sigh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Picture 3" descr="F03-32"/>
          <p:cNvPicPr/>
          <p:nvPr/>
        </p:nvPicPr>
        <p:blipFill>
          <a:blip r:embed="rId1"/>
          <a:stretch/>
        </p:blipFill>
        <p:spPr>
          <a:xfrm>
            <a:off x="557280" y="1650960"/>
            <a:ext cx="8028000" cy="3556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2193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ble light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2920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o wavelength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Energy Gamma Rays - Compton Gamma Ray Observatory (GRO)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gro_spectrum_em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ky’s emission of Gamma Ray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Picture 3" descr="gro_sky"/>
          <p:cNvPicPr/>
          <p:nvPr/>
        </p:nvPicPr>
        <p:blipFill>
          <a:blip r:embed="rId1"/>
          <a:stretch/>
        </p:blipFill>
        <p:spPr>
          <a:xfrm>
            <a:off x="457200" y="684360"/>
            <a:ext cx="8305920" cy="5716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8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, we receive GRBs from every direction !!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7" name="Picture 3" descr="gammaraybursts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4809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066680" y="533412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fact that GRBs come from every direction imply that GRBs don’t come from our galaxy, but from other galaxies spread in every direc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03-30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o wavelength observations are possible from Earth’s su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03-31"/>
          <p:cNvPicPr/>
          <p:nvPr/>
        </p:nvPicPr>
        <p:blipFill>
          <a:blip r:embed="rId1"/>
          <a:stretch/>
        </p:blipFill>
        <p:spPr>
          <a:xfrm>
            <a:off x="0" y="0"/>
            <a:ext cx="9144000" cy="7219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ery Large Array (VLA) in New Mex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fferent types of EM radiation require different types of telescop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racting telescope uses a lens to concentrate incoming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flecting telescope uses mirrors to concentrate incoming star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pass white light through a prism, it separates into its component colors.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3" descr="F03-01A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2359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295280" y="51055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O.Y. G. B.I.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71600" y="5867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1219320" y="4800600"/>
            <a:ext cx="7315200" cy="398880"/>
            <a:chOff x="1219320" y="4800600"/>
            <a:chExt cx="7315200" cy="398880"/>
          </a:xfrm>
        </p:grpSpPr>
        <p:sp>
          <p:nvSpPr>
            <p:cNvPr id="59" name="Text Box 6"/>
            <p:cNvSpPr/>
            <p:nvPr/>
          </p:nvSpPr>
          <p:spPr>
            <a:xfrm>
              <a:off x="1219320" y="480060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ong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7"/>
            <p:cNvSpPr/>
            <p:nvPr/>
          </p:nvSpPr>
          <p:spPr>
            <a:xfrm>
              <a:off x="6172200" y="480060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short wavelength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3276720" y="5029200"/>
              <a:ext cx="2819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alyzing Spectra:                   The Properties of Light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e part of the electromagnetic (EM)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 radiation is described as a wave with wavelengths in the range  1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 to 100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light is only a tiny small part of the entire electromagnetic spectr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its of light are called phot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viding Light Into a Spectru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295280" y="2666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tronomers separate out light into its individual components using a diffraction grating or using a prism - then they analyze each part independent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599000" y="1143000"/>
            <a:ext cx="2639880" cy="3844800"/>
            <a:chOff x="4599000" y="1143000"/>
            <a:chExt cx="2639880" cy="3844800"/>
          </a:xfrm>
        </p:grpSpPr>
        <p:sp>
          <p:nvSpPr>
            <p:cNvPr id="168" name="Line 5"/>
            <p:cNvSpPr/>
            <p:nvPr/>
          </p:nvSpPr>
          <p:spPr>
            <a:xfrm flipV="1">
              <a:off x="4599000" y="2784600"/>
              <a:ext cx="1927440" cy="2203200"/>
            </a:xfrm>
            <a:prstGeom prst="line">
              <a:avLst/>
            </a:prstGeom>
            <a:ln w="254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5638680" y="1143000"/>
              <a:ext cx="1600200" cy="1600200"/>
              <a:chOff x="5638680" y="1143000"/>
              <a:chExt cx="1600200" cy="1600200"/>
            </a:xfrm>
          </p:grpSpPr>
          <p:sp>
            <p:nvSpPr>
              <p:cNvPr id="170" name="Line 7"/>
              <p:cNvSpPr/>
              <p:nvPr/>
            </p:nvSpPr>
            <p:spPr>
              <a:xfrm>
                <a:off x="6324480" y="16002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8"/>
              <p:cNvSpPr/>
              <p:nvPr/>
            </p:nvSpPr>
            <p:spPr>
              <a:xfrm>
                <a:off x="5638680" y="11430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Fil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Line 9"/>
          <p:cNvSpPr/>
          <p:nvPr/>
        </p:nvSpPr>
        <p:spPr>
          <a:xfrm>
            <a:off x="5562720" y="3886200"/>
            <a:ext cx="1600200" cy="609480"/>
          </a:xfrm>
          <a:prstGeom prst="line">
            <a:avLst/>
          </a:prstGeom>
          <a:ln w="127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7137000" y="2971800"/>
            <a:ext cx="1778400" cy="2195640"/>
            <a:chOff x="7137000" y="2971800"/>
            <a:chExt cx="1778400" cy="2195640"/>
          </a:xfrm>
        </p:grpSpPr>
        <p:grpSp>
          <p:nvGrpSpPr>
            <p:cNvPr id="174" name="Group 11"/>
            <p:cNvGrpSpPr/>
            <p:nvPr/>
          </p:nvGrpSpPr>
          <p:grpSpPr>
            <a:xfrm>
              <a:off x="7137000" y="4357080"/>
              <a:ext cx="1346760" cy="810360"/>
              <a:chOff x="7137000" y="4357080"/>
              <a:chExt cx="1346760" cy="810360"/>
            </a:xfrm>
          </p:grpSpPr>
          <p:sp>
            <p:nvSpPr>
              <p:cNvPr id="175" name="Rectangle 12"/>
              <p:cNvSpPr/>
              <p:nvPr/>
            </p:nvSpPr>
            <p:spPr>
              <a:xfrm rot="1230600">
                <a:off x="7236720" y="4584960"/>
                <a:ext cx="1218960" cy="38088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"/>
              <p:cNvSpPr/>
              <p:nvPr/>
            </p:nvSpPr>
            <p:spPr>
              <a:xfrm rot="1230600">
                <a:off x="7198920" y="4371480"/>
                <a:ext cx="152280" cy="380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4"/>
            <p:cNvGrpSpPr/>
            <p:nvPr/>
          </p:nvGrpSpPr>
          <p:grpSpPr>
            <a:xfrm>
              <a:off x="7315200" y="2971800"/>
              <a:ext cx="1600200" cy="1600200"/>
              <a:chOff x="7315200" y="2971800"/>
              <a:chExt cx="1600200" cy="1600200"/>
            </a:xfrm>
          </p:grpSpPr>
          <p:sp>
            <p:nvSpPr>
              <p:cNvPr id="178" name="Line 15"/>
              <p:cNvSpPr/>
              <p:nvPr/>
            </p:nvSpPr>
            <p:spPr>
              <a:xfrm>
                <a:off x="8001000" y="3429000"/>
                <a:ext cx="0" cy="1143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16"/>
              <p:cNvSpPr/>
              <p:nvPr/>
            </p:nvSpPr>
            <p:spPr>
              <a:xfrm>
                <a:off x="7315200" y="29718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8080"/>
                    </a:solidFill>
                    <a:latin typeface="Times New Roman"/>
                  </a:rPr>
                  <a:t>Dete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Text Box 17"/>
          <p:cNvSpPr/>
          <p:nvPr/>
        </p:nvSpPr>
        <p:spPr>
          <a:xfrm rot="1140600">
            <a:off x="7390800" y="4571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00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18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Line 8"/>
          <p:cNvSpPr/>
          <p:nvPr/>
        </p:nvSpPr>
        <p:spPr>
          <a:xfrm>
            <a:off x="5638680" y="3809880"/>
            <a:ext cx="1600200" cy="609840"/>
          </a:xfrm>
          <a:prstGeom prst="line">
            <a:avLst/>
          </a:prstGeom>
          <a:ln w="127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7137000" y="2819520"/>
            <a:ext cx="1778400" cy="2245680"/>
            <a:chOff x="7137000" y="2819520"/>
            <a:chExt cx="1778400" cy="2245680"/>
          </a:xfrm>
        </p:grpSpPr>
        <p:grpSp>
          <p:nvGrpSpPr>
            <p:cNvPr id="191" name="Group 10"/>
            <p:cNvGrpSpPr/>
            <p:nvPr/>
          </p:nvGrpSpPr>
          <p:grpSpPr>
            <a:xfrm>
              <a:off x="7137000" y="2819520"/>
              <a:ext cx="1778400" cy="2195640"/>
              <a:chOff x="7137000" y="2819520"/>
              <a:chExt cx="1778400" cy="2195640"/>
            </a:xfrm>
          </p:grpSpPr>
          <p:grpSp>
            <p:nvGrpSpPr>
              <p:cNvPr id="192" name="Group 11"/>
              <p:cNvGrpSpPr/>
              <p:nvPr/>
            </p:nvGrpSpPr>
            <p:grpSpPr>
              <a:xfrm>
                <a:off x="7137000" y="4204800"/>
                <a:ext cx="1346760" cy="810360"/>
                <a:chOff x="7137000" y="4204800"/>
                <a:chExt cx="1346760" cy="810360"/>
              </a:xfrm>
            </p:grpSpPr>
            <p:sp>
              <p:nvSpPr>
                <p:cNvPr id="193" name="Rectangle 12"/>
                <p:cNvSpPr/>
                <p:nvPr/>
              </p:nvSpPr>
              <p:spPr>
                <a:xfrm rot="1230600">
                  <a:off x="7236720" y="44326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13"/>
                <p:cNvSpPr/>
                <p:nvPr/>
              </p:nvSpPr>
              <p:spPr>
                <a:xfrm rot="1230600">
                  <a:off x="7198920" y="42192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14"/>
              <p:cNvGrpSpPr/>
              <p:nvPr/>
            </p:nvGrpSpPr>
            <p:grpSpPr>
              <a:xfrm>
                <a:off x="7315200" y="2819520"/>
                <a:ext cx="1600200" cy="1600200"/>
                <a:chOff x="7315200" y="2819520"/>
                <a:chExt cx="1600200" cy="1600200"/>
              </a:xfrm>
            </p:grpSpPr>
            <p:sp>
              <p:nvSpPr>
                <p:cNvPr id="196" name="Line 15"/>
                <p:cNvSpPr/>
                <p:nvPr/>
              </p:nvSpPr>
              <p:spPr>
                <a:xfrm>
                  <a:off x="8001000" y="32767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16"/>
                <p:cNvSpPr/>
                <p:nvPr/>
              </p:nvSpPr>
              <p:spPr>
                <a:xfrm>
                  <a:off x="7315200" y="28195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17"/>
            <p:cNvSpPr/>
            <p:nvPr/>
          </p:nvSpPr>
          <p:spPr>
            <a:xfrm rot="1140600">
              <a:off x="7390800" y="44193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0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Line 8"/>
          <p:cNvSpPr/>
          <p:nvPr/>
        </p:nvSpPr>
        <p:spPr>
          <a:xfrm>
            <a:off x="5715000" y="3657600"/>
            <a:ext cx="1600200" cy="6094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7137000" y="2666880"/>
            <a:ext cx="1778400" cy="2245680"/>
            <a:chOff x="7137000" y="2666880"/>
            <a:chExt cx="1778400" cy="2245680"/>
          </a:xfrm>
        </p:grpSpPr>
        <p:grpSp>
          <p:nvGrpSpPr>
            <p:cNvPr id="210" name="Group 10"/>
            <p:cNvGrpSpPr/>
            <p:nvPr/>
          </p:nvGrpSpPr>
          <p:grpSpPr>
            <a:xfrm>
              <a:off x="7137000" y="2666880"/>
              <a:ext cx="1778400" cy="2195640"/>
              <a:chOff x="7137000" y="2666880"/>
              <a:chExt cx="1778400" cy="2195640"/>
            </a:xfrm>
          </p:grpSpPr>
          <p:grpSp>
            <p:nvGrpSpPr>
              <p:cNvPr id="211" name="Group 11"/>
              <p:cNvGrpSpPr/>
              <p:nvPr/>
            </p:nvGrpSpPr>
            <p:grpSpPr>
              <a:xfrm>
                <a:off x="7137000" y="4052160"/>
                <a:ext cx="1346760" cy="810360"/>
                <a:chOff x="7137000" y="4052160"/>
                <a:chExt cx="1346760" cy="810360"/>
              </a:xfrm>
            </p:grpSpPr>
            <p:sp>
              <p:nvSpPr>
                <p:cNvPr id="212" name="Rectangle 12"/>
                <p:cNvSpPr/>
                <p:nvPr/>
              </p:nvSpPr>
              <p:spPr>
                <a:xfrm rot="1230600">
                  <a:off x="7236720" y="42800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13"/>
                <p:cNvSpPr/>
                <p:nvPr/>
              </p:nvSpPr>
              <p:spPr>
                <a:xfrm rot="1230600">
                  <a:off x="7198920" y="40665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14"/>
              <p:cNvGrpSpPr/>
              <p:nvPr/>
            </p:nvGrpSpPr>
            <p:grpSpPr>
              <a:xfrm>
                <a:off x="7315200" y="2666880"/>
                <a:ext cx="1600200" cy="1600200"/>
                <a:chOff x="7315200" y="2666880"/>
                <a:chExt cx="1600200" cy="1600200"/>
              </a:xfrm>
            </p:grpSpPr>
            <p:sp>
              <p:nvSpPr>
                <p:cNvPr id="215" name="Line 15"/>
                <p:cNvSpPr/>
                <p:nvPr/>
              </p:nvSpPr>
              <p:spPr>
                <a:xfrm>
                  <a:off x="8001000" y="31240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16"/>
                <p:cNvSpPr/>
                <p:nvPr/>
              </p:nvSpPr>
              <p:spPr>
                <a:xfrm>
                  <a:off x="7315200" y="26668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" name="Text Box 17"/>
            <p:cNvSpPr/>
            <p:nvPr/>
          </p:nvSpPr>
          <p:spPr>
            <a:xfrm rot="1140600">
              <a:off x="7390800" y="426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99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26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8"/>
          <p:cNvSpPr/>
          <p:nvPr/>
        </p:nvSpPr>
        <p:spPr>
          <a:xfrm>
            <a:off x="5791320" y="3581280"/>
            <a:ext cx="1600200" cy="609840"/>
          </a:xfrm>
          <a:prstGeom prst="line">
            <a:avLst/>
          </a:prstGeom>
          <a:ln w="127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7212960" y="2590920"/>
            <a:ext cx="1778400" cy="2245680"/>
            <a:chOff x="7212960" y="2590920"/>
            <a:chExt cx="1778400" cy="2245680"/>
          </a:xfrm>
        </p:grpSpPr>
        <p:grpSp>
          <p:nvGrpSpPr>
            <p:cNvPr id="230" name="Group 10"/>
            <p:cNvGrpSpPr/>
            <p:nvPr/>
          </p:nvGrpSpPr>
          <p:grpSpPr>
            <a:xfrm>
              <a:off x="7212960" y="2590920"/>
              <a:ext cx="1778400" cy="2195640"/>
              <a:chOff x="7212960" y="2590920"/>
              <a:chExt cx="1778400" cy="2195640"/>
            </a:xfrm>
          </p:grpSpPr>
          <p:grpSp>
            <p:nvGrpSpPr>
              <p:cNvPr id="231" name="Group 11"/>
              <p:cNvGrpSpPr/>
              <p:nvPr/>
            </p:nvGrpSpPr>
            <p:grpSpPr>
              <a:xfrm>
                <a:off x="7212960" y="3976200"/>
                <a:ext cx="1346760" cy="810360"/>
                <a:chOff x="7212960" y="3976200"/>
                <a:chExt cx="1346760" cy="810360"/>
              </a:xfrm>
            </p:grpSpPr>
            <p:sp>
              <p:nvSpPr>
                <p:cNvPr id="232" name="Rectangle 12"/>
                <p:cNvSpPr/>
                <p:nvPr/>
              </p:nvSpPr>
              <p:spPr>
                <a:xfrm rot="1230600">
                  <a:off x="7312680" y="420408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 rot="1230600">
                  <a:off x="7274880" y="399060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Group 14"/>
              <p:cNvGrpSpPr/>
              <p:nvPr/>
            </p:nvGrpSpPr>
            <p:grpSpPr>
              <a:xfrm>
                <a:off x="7391160" y="2590920"/>
                <a:ext cx="1600200" cy="1600200"/>
                <a:chOff x="7391160" y="2590920"/>
                <a:chExt cx="1600200" cy="1600200"/>
              </a:xfrm>
            </p:grpSpPr>
            <p:sp>
              <p:nvSpPr>
                <p:cNvPr id="235" name="Line 15"/>
                <p:cNvSpPr/>
                <p:nvPr/>
              </p:nvSpPr>
              <p:spPr>
                <a:xfrm>
                  <a:off x="8076960" y="304812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16"/>
                <p:cNvSpPr/>
                <p:nvPr/>
              </p:nvSpPr>
              <p:spPr>
                <a:xfrm>
                  <a:off x="7391160" y="259092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Text Box 17"/>
            <p:cNvSpPr/>
            <p:nvPr/>
          </p:nvSpPr>
          <p:spPr>
            <a:xfrm rot="1140600">
              <a:off x="7466760" y="419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4724280" cy="301788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304920" y="243828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599000" y="2784600"/>
            <a:ext cx="1927440" cy="2203200"/>
          </a:xfrm>
          <a:prstGeom prst="line">
            <a:avLst/>
          </a:prstGeom>
          <a:ln w="254160">
            <a:solidFill>
              <a:srgbClr val="ff3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5638680" y="1143000"/>
            <a:ext cx="1600200" cy="1600200"/>
            <a:chOff x="5638680" y="1143000"/>
            <a:chExt cx="1600200" cy="1600200"/>
          </a:xfrm>
        </p:grpSpPr>
        <p:sp>
          <p:nvSpPr>
            <p:cNvPr id="247" name="Line 6"/>
            <p:cNvSpPr/>
            <p:nvPr/>
          </p:nvSpPr>
          <p:spPr>
            <a:xfrm>
              <a:off x="6324480" y="1600200"/>
              <a:ext cx="0" cy="1143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638680" y="1143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Line 8"/>
          <p:cNvSpPr/>
          <p:nvPr/>
        </p:nvSpPr>
        <p:spPr>
          <a:xfrm>
            <a:off x="5867280" y="3429000"/>
            <a:ext cx="1600200" cy="60948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7365600" y="2438280"/>
            <a:ext cx="1778400" cy="2245680"/>
            <a:chOff x="7365600" y="2438280"/>
            <a:chExt cx="1778400" cy="2245680"/>
          </a:xfrm>
        </p:grpSpPr>
        <p:grpSp>
          <p:nvGrpSpPr>
            <p:cNvPr id="251" name="Group 10"/>
            <p:cNvGrpSpPr/>
            <p:nvPr/>
          </p:nvGrpSpPr>
          <p:grpSpPr>
            <a:xfrm>
              <a:off x="7365600" y="2438280"/>
              <a:ext cx="1778400" cy="2195640"/>
              <a:chOff x="7365600" y="2438280"/>
              <a:chExt cx="1778400" cy="2195640"/>
            </a:xfrm>
          </p:grpSpPr>
          <p:grpSp>
            <p:nvGrpSpPr>
              <p:cNvPr id="252" name="Group 11"/>
              <p:cNvGrpSpPr/>
              <p:nvPr/>
            </p:nvGrpSpPr>
            <p:grpSpPr>
              <a:xfrm>
                <a:off x="7365600" y="3823560"/>
                <a:ext cx="1346760" cy="810360"/>
                <a:chOff x="7365600" y="3823560"/>
                <a:chExt cx="1346760" cy="810360"/>
              </a:xfrm>
            </p:grpSpPr>
            <p:sp>
              <p:nvSpPr>
                <p:cNvPr id="253" name="Rectangle 12"/>
                <p:cNvSpPr/>
                <p:nvPr/>
              </p:nvSpPr>
              <p:spPr>
                <a:xfrm rot="1230600">
                  <a:off x="7465320" y="4051440"/>
                  <a:ext cx="1218960" cy="380880"/>
                </a:xfrm>
                <a:prstGeom prst="rect">
                  <a:avLst/>
                </a:prstGeom>
                <a:noFill/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Oval 13"/>
                <p:cNvSpPr/>
                <p:nvPr/>
              </p:nvSpPr>
              <p:spPr>
                <a:xfrm rot="1230600">
                  <a:off x="7427520" y="3837960"/>
                  <a:ext cx="152280" cy="380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4"/>
              <p:cNvGrpSpPr/>
              <p:nvPr/>
            </p:nvGrpSpPr>
            <p:grpSpPr>
              <a:xfrm>
                <a:off x="7543800" y="2438280"/>
                <a:ext cx="1600200" cy="1600200"/>
                <a:chOff x="7543800" y="2438280"/>
                <a:chExt cx="1600200" cy="1600200"/>
              </a:xfrm>
            </p:grpSpPr>
            <p:sp>
              <p:nvSpPr>
                <p:cNvPr id="256" name="Line 15"/>
                <p:cNvSpPr/>
                <p:nvPr/>
              </p:nvSpPr>
              <p:spPr>
                <a:xfrm>
                  <a:off x="8229600" y="2895480"/>
                  <a:ext cx="0" cy="1143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6"/>
                <p:cNvSpPr/>
                <p:nvPr/>
              </p:nvSpPr>
              <p:spPr>
                <a:xfrm>
                  <a:off x="7543800" y="24382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08080"/>
                      </a:solidFill>
                      <a:latin typeface="Times New Roman"/>
                    </a:rPr>
                    <a:t>Detecto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Text Box 17"/>
            <p:cNvSpPr/>
            <p:nvPr/>
          </p:nvSpPr>
          <p:spPr>
            <a:xfrm rot="1140600">
              <a:off x="7619400" y="4038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Text Box 18"/>
          <p:cNvSpPr/>
          <p:nvPr/>
        </p:nvSpPr>
        <p:spPr>
          <a:xfrm>
            <a:off x="763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lu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4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76320" y="380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3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7632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yellow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58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76320" y="114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orang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1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763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6600 A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3"/>
          <p:cNvSpPr/>
          <p:nvPr/>
        </p:nvSpPr>
        <p:spPr>
          <a:xfrm>
            <a:off x="4648320" y="228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Times New Roman"/>
              </a:rPr>
              <a:t>The spectrum is contin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295280" y="6400800"/>
            <a:ext cx="762120" cy="304920"/>
            <a:chOff x="1295280" y="6400800"/>
            <a:chExt cx="762120" cy="304920"/>
          </a:xfrm>
        </p:grpSpPr>
        <p:sp>
          <p:nvSpPr>
            <p:cNvPr id="266" name="Rectangle 25"/>
            <p:cNvSpPr/>
            <p:nvPr/>
          </p:nvSpPr>
          <p:spPr>
            <a:xfrm>
              <a:off x="1600200" y="6400800"/>
              <a:ext cx="152280" cy="304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26"/>
            <p:cNvSpPr/>
            <p:nvPr/>
          </p:nvSpPr>
          <p:spPr>
            <a:xfrm>
              <a:off x="1752480" y="6400800"/>
              <a:ext cx="152640" cy="3049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27"/>
            <p:cNvSpPr/>
            <p:nvPr/>
          </p:nvSpPr>
          <p:spPr>
            <a:xfrm>
              <a:off x="1905120" y="6400800"/>
              <a:ext cx="152280" cy="3049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1447920" y="6400800"/>
              <a:ext cx="15228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1295280" y="6400800"/>
              <a:ext cx="152640" cy="3049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30"/>
          <p:cNvGrpSpPr/>
          <p:nvPr/>
        </p:nvGrpSpPr>
        <p:grpSpPr>
          <a:xfrm>
            <a:off x="228240" y="4229280"/>
            <a:ext cx="3048480" cy="2476080"/>
            <a:chOff x="228240" y="4229280"/>
            <a:chExt cx="3048480" cy="2476080"/>
          </a:xfrm>
        </p:grpSpPr>
        <p:sp>
          <p:nvSpPr>
            <p:cNvPr id="272" name="Line 31"/>
            <p:cNvSpPr/>
            <p:nvPr/>
          </p:nvSpPr>
          <p:spPr>
            <a:xfrm>
              <a:off x="228600" y="4229280"/>
              <a:ext cx="0" cy="247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228600" y="670320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33"/>
            <p:cNvGrpSpPr/>
            <p:nvPr/>
          </p:nvGrpSpPr>
          <p:grpSpPr>
            <a:xfrm>
              <a:off x="576720" y="6592320"/>
              <a:ext cx="2665440" cy="113040"/>
              <a:chOff x="576720" y="6592320"/>
              <a:chExt cx="2665440" cy="113040"/>
            </a:xfrm>
          </p:grpSpPr>
          <p:sp>
            <p:nvSpPr>
              <p:cNvPr id="275" name="Line 34"/>
              <p:cNvSpPr/>
              <p:nvPr/>
            </p:nvSpPr>
            <p:spPr>
              <a:xfrm>
                <a:off x="576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35"/>
              <p:cNvSpPr/>
              <p:nvPr/>
            </p:nvSpPr>
            <p:spPr>
              <a:xfrm>
                <a:off x="1243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Line 36"/>
              <p:cNvSpPr/>
              <p:nvPr/>
            </p:nvSpPr>
            <p:spPr>
              <a:xfrm>
                <a:off x="224280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37"/>
              <p:cNvSpPr/>
              <p:nvPr/>
            </p:nvSpPr>
            <p:spPr>
              <a:xfrm>
                <a:off x="90972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>
                <a:off x="1909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2908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40"/>
              <p:cNvSpPr/>
              <p:nvPr/>
            </p:nvSpPr>
            <p:spPr>
              <a:xfrm>
                <a:off x="257544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41"/>
              <p:cNvSpPr/>
              <p:nvPr/>
            </p:nvSpPr>
            <p:spPr>
              <a:xfrm>
                <a:off x="324216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42"/>
              <p:cNvSpPr/>
              <p:nvPr/>
            </p:nvSpPr>
            <p:spPr>
              <a:xfrm>
                <a:off x="1576080" y="659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Line 43"/>
            <p:cNvSpPr/>
            <p:nvPr/>
          </p:nvSpPr>
          <p:spPr>
            <a:xfrm flipH="1">
              <a:off x="228240" y="461988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44"/>
            <p:cNvSpPr/>
            <p:nvPr/>
          </p:nvSpPr>
          <p:spPr>
            <a:xfrm flipH="1">
              <a:off x="228240" y="59155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 flipH="1">
              <a:off x="228240" y="435924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H="1">
              <a:off x="228240" y="565740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H="1">
              <a:off x="228240" y="64353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 flipH="1">
              <a:off x="228240" y="61747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 flipH="1">
              <a:off x="228240" y="513756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 flipH="1">
              <a:off x="228240" y="4876920"/>
              <a:ext cx="1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1"/>
            <p:cNvSpPr/>
            <p:nvPr/>
          </p:nvSpPr>
          <p:spPr>
            <a:xfrm flipH="1">
              <a:off x="228600" y="542484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52"/>
            <p:cNvSpPr/>
            <p:nvPr/>
          </p:nvSpPr>
          <p:spPr>
            <a:xfrm>
              <a:off x="740880" y="4474080"/>
              <a:ext cx="2126160" cy="1784520"/>
            </a:xfrm>
            <a:custGeom>
              <a:avLst/>
              <a:gdLst/>
              <a:ahLst/>
              <a:rect l="l" t="t" r="r" b="b"/>
              <a:pathLst>
                <a:path w="2454" h="2061">
                  <a:moveTo>
                    <a:pt x="0" y="2061"/>
                  </a:moveTo>
                  <a:cubicBezTo>
                    <a:pt x="112" y="1777"/>
                    <a:pt x="224" y="1493"/>
                    <a:pt x="345" y="1186"/>
                  </a:cubicBezTo>
                  <a:cubicBezTo>
                    <a:pt x="466" y="879"/>
                    <a:pt x="595" y="414"/>
                    <a:pt x="726" y="218"/>
                  </a:cubicBezTo>
                  <a:cubicBezTo>
                    <a:pt x="857" y="22"/>
                    <a:pt x="1020" y="22"/>
                    <a:pt x="1129" y="11"/>
                  </a:cubicBezTo>
                  <a:cubicBezTo>
                    <a:pt x="1238" y="0"/>
                    <a:pt x="1303" y="95"/>
                    <a:pt x="1382" y="149"/>
                  </a:cubicBezTo>
                  <a:cubicBezTo>
                    <a:pt x="1461" y="203"/>
                    <a:pt x="1497" y="247"/>
                    <a:pt x="1601" y="333"/>
                  </a:cubicBezTo>
                  <a:cubicBezTo>
                    <a:pt x="1705" y="419"/>
                    <a:pt x="1862" y="539"/>
                    <a:pt x="2004" y="668"/>
                  </a:cubicBezTo>
                  <a:cubicBezTo>
                    <a:pt x="2146" y="797"/>
                    <a:pt x="2371" y="1025"/>
                    <a:pt x="2454" y="110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3"/>
          <p:cNvGrpSpPr/>
          <p:nvPr/>
        </p:nvGrpSpPr>
        <p:grpSpPr>
          <a:xfrm>
            <a:off x="533520" y="6172200"/>
            <a:ext cx="2743200" cy="459720"/>
            <a:chOff x="533520" y="6172200"/>
            <a:chExt cx="2743200" cy="459720"/>
          </a:xfrm>
        </p:grpSpPr>
        <p:sp>
          <p:nvSpPr>
            <p:cNvPr id="295" name="Text Box 54"/>
            <p:cNvSpPr/>
            <p:nvPr/>
          </p:nvSpPr>
          <p:spPr>
            <a:xfrm>
              <a:off x="5335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U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55"/>
            <p:cNvSpPr/>
            <p:nvPr/>
          </p:nvSpPr>
          <p:spPr>
            <a:xfrm>
              <a:off x="236232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pectra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light sources contain energy in lots of different waveleng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can measure the brightness in various wavelength bands--the result is called the spectr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pectrum (total character of light emitted) can tell us a lot about a sour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polar_colours"/>
          <p:cNvPicPr/>
          <p:nvPr/>
        </p:nvPicPr>
        <p:blipFill>
          <a:blip r:embed="rId1"/>
          <a:stretch/>
        </p:blipFill>
        <p:spPr>
          <a:xfrm>
            <a:off x="1523880" y="0"/>
            <a:ext cx="588024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3276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refracting telescope uses a lens to concentrate incoming ligh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04" name="Picture 4" descr="F03-08"/>
          <p:cNvPicPr/>
          <p:nvPr/>
        </p:nvPicPr>
        <p:blipFill>
          <a:blip r:embed="rId1"/>
          <a:stretch/>
        </p:blipFill>
        <p:spPr>
          <a:xfrm>
            <a:off x="4246560" y="0"/>
            <a:ext cx="4897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0" y="4572000"/>
            <a:ext cx="4038480" cy="2286000"/>
            <a:chOff x="0" y="4572000"/>
            <a:chExt cx="4038480" cy="2286000"/>
          </a:xfrm>
        </p:grpSpPr>
        <p:pic>
          <p:nvPicPr>
            <p:cNvPr id="306" name="Object 6" descr=""/>
            <p:cNvPicPr/>
            <p:nvPr/>
          </p:nvPicPr>
          <p:blipFill>
            <a:blip r:embed="rId2"/>
            <a:stretch/>
          </p:blipFill>
          <p:spPr>
            <a:xfrm>
              <a:off x="0" y="4572000"/>
              <a:ext cx="1662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7"/>
            <p:cNvSpPr/>
            <p:nvPr/>
          </p:nvSpPr>
          <p:spPr>
            <a:xfrm>
              <a:off x="1752480" y="51814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milar to a magnifying g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f white light contains all colors, how fast does it move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4" name="Picture 4" descr="F03-02"/>
          <p:cNvPicPr/>
          <p:nvPr/>
        </p:nvPicPr>
        <p:blipFill>
          <a:blip r:embed="rId1"/>
          <a:stretch/>
        </p:blipFill>
        <p:spPr>
          <a:xfrm>
            <a:off x="3581280" y="17524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,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ometer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uccessfully determined by Danish astronomer Ole Roemer in 16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03-1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864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F03-1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048120" y="387180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 larger objective lens provides a brighter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ot bigger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09720" y="533520"/>
            <a:ext cx="304812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ses reverse imag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15" name="Picture 3" descr="F03-09"/>
          <p:cNvPicPr/>
          <p:nvPr/>
        </p:nvPicPr>
        <p:blipFill>
          <a:blip r:embed="rId1"/>
          <a:stretch/>
        </p:blipFill>
        <p:spPr>
          <a:xfrm>
            <a:off x="0" y="0"/>
            <a:ext cx="49626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9140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hree main functions of a telescope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light gathering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fin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alled resol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nd least importa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nification = (objective lens focal lengt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yepiece lens focal leng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Functions of a Telescop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ther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a large 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of few inches to 10 meter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solve fine det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y size and atmospheric “see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gn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s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0x per inch of aper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ule of thum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5" descr="spherical-aberration"/>
          <p:cNvPicPr/>
          <p:nvPr/>
        </p:nvPicPr>
        <p:blipFill>
          <a:blip r:embed="rId1"/>
          <a:stretch/>
        </p:blipFill>
        <p:spPr>
          <a:xfrm>
            <a:off x="1371600" y="3124080"/>
            <a:ext cx="1870200" cy="3276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8" descr="A4aber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981080"/>
            <a:ext cx="3044880" cy="449604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F03-13"/>
          <p:cNvPicPr/>
          <p:nvPr/>
        </p:nvPicPr>
        <p:blipFill>
          <a:blip r:embed="rId1"/>
          <a:stretch/>
        </p:blipFill>
        <p:spPr>
          <a:xfrm>
            <a:off x="0" y="2284560"/>
            <a:ext cx="4443480" cy="457344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0" y="561960"/>
            <a:ext cx="9144000" cy="6296040"/>
            <a:chOff x="0" y="561960"/>
            <a:chExt cx="9144000" cy="6296040"/>
          </a:xfrm>
        </p:grpSpPr>
        <p:pic>
          <p:nvPicPr>
            <p:cNvPr id="330" name="Picture 3" descr="F03-14"/>
            <p:cNvPicPr/>
            <p:nvPr/>
          </p:nvPicPr>
          <p:blipFill>
            <a:blip r:embed="rId2"/>
            <a:stretch/>
          </p:blipFill>
          <p:spPr>
            <a:xfrm>
              <a:off x="4702320" y="2286000"/>
              <a:ext cx="44416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4"/>
            <p:cNvSpPr/>
            <p:nvPr/>
          </p:nvSpPr>
          <p:spPr>
            <a:xfrm>
              <a:off x="0" y="5619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Special achromatic compound lenses and lens coatings can often fix this aberr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fracting telescopes have drawbac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ical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gging due to gravity distorting the 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anted re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aque to certain wavelengths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5" descr="F03-16"/>
          <p:cNvPicPr/>
          <p:nvPr/>
        </p:nvPicPr>
        <p:blipFill>
          <a:blip r:embed="rId1"/>
          <a:stretch/>
        </p:blipFill>
        <p:spPr>
          <a:xfrm>
            <a:off x="4927680" y="1522440"/>
            <a:ext cx="4216320" cy="53355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6"/>
          <p:cNvSpPr/>
          <p:nvPr/>
        </p:nvSpPr>
        <p:spPr>
          <a:xfrm>
            <a:off x="990720" y="5865840"/>
            <a:ext cx="7607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rkes Observ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0-inch Refracting Telescop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Refracting Telescope in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F03-19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832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flecting telescopes use mirrors to concentrate incoming starligh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3" descr="F03-19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535464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4"/>
          <p:cNvGrpSpPr/>
          <p:nvPr/>
        </p:nvGrpSpPr>
        <p:grpSpPr>
          <a:xfrm>
            <a:off x="152280" y="5028840"/>
            <a:ext cx="2895840" cy="1298160"/>
            <a:chOff x="152280" y="5028840"/>
            <a:chExt cx="2895840" cy="1298160"/>
          </a:xfrm>
        </p:grpSpPr>
        <p:sp>
          <p:nvSpPr>
            <p:cNvPr id="344" name="Text Box 4"/>
            <p:cNvSpPr/>
            <p:nvPr/>
          </p:nvSpPr>
          <p:spPr>
            <a:xfrm>
              <a:off x="152280" y="586728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ewtonia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V="1">
              <a:off x="1371600" y="5028840"/>
              <a:ext cx="380880" cy="762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2209680" y="5029200"/>
            <a:ext cx="2362320" cy="1755000"/>
            <a:chOff x="2209680" y="5029200"/>
            <a:chExt cx="2362320" cy="1755000"/>
          </a:xfrm>
        </p:grpSpPr>
        <p:sp>
          <p:nvSpPr>
            <p:cNvPr id="347" name="Line 7"/>
            <p:cNvSpPr/>
            <p:nvPr/>
          </p:nvSpPr>
          <p:spPr>
            <a:xfrm flipV="1">
              <a:off x="3124080" y="5029200"/>
              <a:ext cx="45720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11"/>
            <p:cNvSpPr/>
            <p:nvPr/>
          </p:nvSpPr>
          <p:spPr>
            <a:xfrm>
              <a:off x="2209680" y="632448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ime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4267080" y="5105160"/>
            <a:ext cx="2895840" cy="1145880"/>
            <a:chOff x="4267080" y="5105160"/>
            <a:chExt cx="2895840" cy="1145880"/>
          </a:xfrm>
        </p:grpSpPr>
        <p:sp>
          <p:nvSpPr>
            <p:cNvPr id="350" name="Line 8"/>
            <p:cNvSpPr/>
            <p:nvPr/>
          </p:nvSpPr>
          <p:spPr>
            <a:xfrm flipV="1">
              <a:off x="5334120" y="5105160"/>
              <a:ext cx="0" cy="609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12"/>
            <p:cNvSpPr/>
            <p:nvPr/>
          </p:nvSpPr>
          <p:spPr>
            <a:xfrm>
              <a:off x="4267080" y="5791320"/>
              <a:ext cx="28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segrain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6781680" y="5028840"/>
            <a:ext cx="2133720" cy="1603080"/>
            <a:chOff x="6781680" y="5028840"/>
            <a:chExt cx="2133720" cy="1603080"/>
          </a:xfrm>
        </p:grpSpPr>
        <p:sp>
          <p:nvSpPr>
            <p:cNvPr id="353" name="Line 9"/>
            <p:cNvSpPr/>
            <p:nvPr/>
          </p:nvSpPr>
          <p:spPr>
            <a:xfrm flipH="1" flipV="1">
              <a:off x="6857640" y="5028840"/>
              <a:ext cx="76212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3"/>
            <p:cNvSpPr/>
            <p:nvPr/>
          </p:nvSpPr>
          <p:spPr>
            <a:xfrm>
              <a:off x="6781680" y="6172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ude’ foc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ut, what is light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7th Century, Isaac Newton argued that light was composed of little particles while Christian Huygens suggested that light travels in the form of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19th Century, Thomas Young demonstrated that light bends slightly around corners and acts like interfering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tronomer’s face two major obstacles in observing the star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Pollution from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Twinkling from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ucson, Arizona in 1959 and 1980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60" name="Picture 6" descr="F03-23B"/>
          <p:cNvPicPr/>
          <p:nvPr/>
        </p:nvPicPr>
        <p:blipFill>
          <a:blip r:embed="rId1"/>
          <a:stretch/>
        </p:blipFill>
        <p:spPr>
          <a:xfrm>
            <a:off x="4648320" y="2590920"/>
            <a:ext cx="4495680" cy="3371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61" name="Picture 8" descr="F03-23A"/>
          <p:cNvPicPr/>
          <p:nvPr/>
        </p:nvPicPr>
        <p:blipFill>
          <a:blip r:embed="rId2"/>
          <a:stretch/>
        </p:blipFill>
        <p:spPr>
          <a:xfrm>
            <a:off x="152280" y="1523880"/>
            <a:ext cx="4343400" cy="3378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arth’s atmosphere hinders astronomical researc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0" y="990720"/>
            <a:ext cx="4114800" cy="5867280"/>
            <a:chOff x="0" y="990720"/>
            <a:chExt cx="4114800" cy="5867280"/>
          </a:xfrm>
        </p:grpSpPr>
        <p:pic>
          <p:nvPicPr>
            <p:cNvPr id="365" name="Picture 4" descr="F03-22a"/>
            <p:cNvPicPr/>
            <p:nvPr/>
          </p:nvPicPr>
          <p:blipFill>
            <a:blip r:embed="rId1"/>
            <a:stretch/>
          </p:blipFill>
          <p:spPr>
            <a:xfrm>
              <a:off x="0" y="274320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6"/>
            <p:cNvSpPr/>
            <p:nvPr/>
          </p:nvSpPr>
          <p:spPr>
            <a:xfrm>
              <a:off x="533520" y="99072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age of stars taken with a telescope on the Earth’s su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9"/>
          <p:cNvGrpSpPr/>
          <p:nvPr/>
        </p:nvGrpSpPr>
        <p:grpSpPr>
          <a:xfrm>
            <a:off x="4267080" y="990720"/>
            <a:ext cx="4876920" cy="5867280"/>
            <a:chOff x="4267080" y="990720"/>
            <a:chExt cx="4876920" cy="5867280"/>
          </a:xfrm>
        </p:grpSpPr>
        <p:pic>
          <p:nvPicPr>
            <p:cNvPr id="368" name="Picture 5" descr="F03-22b"/>
            <p:cNvPicPr/>
            <p:nvPr/>
          </p:nvPicPr>
          <p:blipFill>
            <a:blip r:embed="rId2"/>
            <a:stretch/>
          </p:blipFill>
          <p:spPr>
            <a:xfrm>
              <a:off x="4267080" y="2762280"/>
              <a:ext cx="487692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7"/>
            <p:cNvSpPr/>
            <p:nvPr/>
          </p:nvSpPr>
          <p:spPr>
            <a:xfrm>
              <a:off x="5105520" y="9907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me picture taken with Hubble Space Telescope high above Earth’s blurring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apid changes in the density of Earth’s atmosphere cause passing starlight to quickly change direction, making stars appear to twinkle.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vanced technology is spawning a new generation of equipment to view the univers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Ds (charge-coupled de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telescopes on remote mountain 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na Kea in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o Pachon i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Optics to counteract the blurring of Earth’s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iting space observ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Charge-Coupled Device (CCD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77" name="Picture 3" descr="ccd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Dscn6264s1024x768d"/>
          <p:cNvPicPr/>
          <p:nvPr/>
        </p:nvPicPr>
        <p:blipFill>
          <a:blip r:embed="rId2"/>
          <a:stretch/>
        </p:blipFill>
        <p:spPr>
          <a:xfrm>
            <a:off x="1600200" y="2647800"/>
            <a:ext cx="5410080" cy="4057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cd"/>
          <p:cNvPicPr/>
          <p:nvPr/>
        </p:nvPicPr>
        <p:blipFill>
          <a:blip r:embed="rId3"/>
          <a:stretch/>
        </p:blipFill>
        <p:spPr>
          <a:xfrm>
            <a:off x="6477120" y="4038480"/>
            <a:ext cx="2382840" cy="198144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inary Photographs vs. CCD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82" name="Picture 4" descr="F03-29"/>
          <p:cNvPicPr/>
          <p:nvPr/>
        </p:nvPicPr>
        <p:blipFill>
          <a:blip r:embed="rId1"/>
          <a:stretch/>
        </p:blipFill>
        <p:spPr>
          <a:xfrm>
            <a:off x="533520" y="1752480"/>
            <a:ext cx="8028000" cy="35053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6858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m (negative)           CCD (negative)             CCD (posi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09480" y="5867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integration (I.e. exposure) ti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quantum efficiency: Film 1% CCD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F03-27"/>
          <p:cNvPicPr/>
          <p:nvPr/>
        </p:nvPicPr>
        <p:blipFill>
          <a:blip r:embed="rId1"/>
          <a:stretch/>
        </p:blipFill>
        <p:spPr>
          <a:xfrm>
            <a:off x="0" y="-6480"/>
            <a:ext cx="7391520" cy="686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ching 10-m, multiple mirror Keck Telescopes in Hawaii with adaptive optics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F03-24"/>
          <p:cNvPicPr/>
          <p:nvPr/>
        </p:nvPicPr>
        <p:blipFill>
          <a:blip r:embed="rId1"/>
          <a:stretch/>
        </p:blipFill>
        <p:spPr>
          <a:xfrm>
            <a:off x="0" y="74520"/>
            <a:ext cx="6783480" cy="67834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00440" y="-360"/>
            <a:ext cx="25909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above Earth’s atmosphere, the Hubble Space Telescope provides stunning details about the univers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did you think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is the main purpose of a telescop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lescope is designed to collect as much light as possible.  It also improves resolution and magnifies im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do stars twinkle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changes in the density of Earth’s atmosphere cause passing starlight to change direction, making stars appear to twink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03-03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13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3808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omas Young’s interference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cottish physicist James Clerk Maxwell showed mathematically in the 1860s that light must be a combination of electric and magnetic fields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3" descr="F03-04"/>
          <p:cNvPicPr/>
          <p:nvPr/>
        </p:nvPicPr>
        <p:blipFill>
          <a:blip r:embed="rId1"/>
          <a:stretch/>
        </p:blipFill>
        <p:spPr>
          <a:xfrm>
            <a:off x="533520" y="2514600"/>
            <a:ext cx="8028000" cy="2895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 wasn’t until 1905 that our current understanding of the nature of light emerged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Einstein showed that light sometimes behaves as particles and sometimes as wav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4648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n energy = Plank’s constant x speed of ligh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03-05"/>
          <p:cNvPicPr/>
          <p:nvPr/>
        </p:nvPicPr>
        <p:blipFill>
          <a:blip r:embed="rId1"/>
          <a:stretch/>
        </p:blipFill>
        <p:spPr>
          <a:xfrm>
            <a:off x="0" y="0"/>
            <a:ext cx="55497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38480" y="-30492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isible light is only one type of electromagnetic radiation emitted by star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343400" y="4419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ype of EM radiation travels at exactly the same speed - the speed of l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22:37:34Z</dcterms:created>
  <dc:creator>Kelle Slater</dc:creator>
  <dc:description/>
  <dc:language>en-US</dc:language>
  <cp:lastModifiedBy>Legion</cp:lastModifiedBy>
  <dcterms:modified xsi:type="dcterms:W3CDTF">2017-01-26T13:55:46Z</dcterms:modified>
  <cp:revision>53</cp:revision>
  <dc:subject/>
  <dc:title>Foundation 1 - Discovering Astronomy</dc:title>
</cp:coreProperties>
</file>